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F2B-DD2F-42CC-B7B6-A13CE2E8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F7C-3978-4D4D-804B-7CAF66EE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567-8BE0-4133-8740-520EBEBF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845-CB94-4E61-A771-4064F5F2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8B0-6569-40B1-BD50-50BFBF04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2E07-B527-4185-89E6-7131F0D7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F4CB-5386-4561-A8A3-C87DE01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BA89-1C9D-41B3-A903-61A9918D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F7E9-287D-453E-BBB4-B61A1D04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F1E2-4771-40F0-8788-58149FE4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47C-DBA3-42DA-97AB-7297A3F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401-B7C0-408F-9076-0307AAB6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2C58-448B-4F43-8995-A298DAC1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D369-3444-4872-A15C-06DE1186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7EDD-7593-4846-9E2E-52629CB2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99A5-C433-4D3B-B6A1-122D81C1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CBD1-0398-4F30-81B7-BE1A63C4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882-3569-4CCE-9BD9-9FDE9577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1C5-2264-4FAF-884B-0DB4FBC5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B60-1307-4F6F-9C13-89F00535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790-E7C0-47C2-916B-954F269A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CA0-24C7-4775-B0D2-AAD16F1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DC4-E464-49BE-AD69-06534E8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5F2-9258-4454-BB2E-CE269B4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3CC4-3645-448F-A792-8CD4BE1F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2125-E56A-410F-8C6E-B3BDB9D0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Einl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63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as Strategy Pat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95416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Ein objektbasiertes Verhaltensm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Auch bekannt al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licy-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030400" y="762120"/>
          <a:ext cx="4572000" cy="23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762120"/>
                    <a:ext cx="457200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truktur - 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0400" y="1778040"/>
            <a:ext cx="1600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57276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_Stammkun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xtends PreisRechn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return 2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7960" y="116856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2920" y="116856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Rech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51960" y="21589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Rechner_Neuku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0520" y="2158920"/>
            <a:ext cx="24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Rechner_Stammku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405144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abstract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48895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_Neukun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xtends PreisRechn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return 5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2968560"/>
            <a:ext cx="624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Too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xxx = new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_Neukun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 xxx.getPreis(100) 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43434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010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5438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343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523880" y="3352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3429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600200" y="3429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3352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12408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3880" y="16765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nwe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22096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ine Klasse enthält unterschiedliches Verhalten, if-Anweis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7432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K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76720"/>
            <a:ext cx="6248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schiedene Klassen unterscheiden sich nur durch ihr Ver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&gt; Gemeinsames Verhalten als Kontext “rausfaktorisiere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41911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Erweit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47242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alls verschiedene Varianten unterstützt werden so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3880" y="1523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1523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en müssen bekannt s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2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nittstellen u.U. zu umfangreich für gewisse Strateg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3200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nötiger Kommunikationsaufwand zwischen Strategie und Kontext, wenn der Algorithmus nicht alle Argumente benöti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800600"/>
            <a:ext cx="6248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- Übergabe der Kontext Refer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trategie besorgt sich die nötig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Informationen selb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238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Refe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828800"/>
            <a:ext cx="6248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vico.org/pages/PatronsDisseny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tern description by Erich Gamma &amp;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3641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3641760"/>
            <a:ext cx="6248160" cy="14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ndung von Design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portal.dfpug.de/dFPUG/Dokumente/Konferenzen/VFP-Konferenz%202001/D-PATT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thalie Mengel, Wizards &amp; Builders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Ohn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447920"/>
            <a:ext cx="693432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er Klient enthält den Kontext und den Algorithmus, der den Kontext bearbei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99cc"/>
                </a:solidFill>
                <a:latin typeface="Courier New"/>
              </a:rPr>
              <a:t>int bruttoPreis =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Courier New"/>
              </a:rPr>
              <a:t>int nettoPreis = bruttoPreis*0.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r Klient stellt mehrere Algorithmen um den Kontext zu be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99cc"/>
                </a:solidFill>
                <a:latin typeface="Courier New"/>
              </a:rPr>
              <a:t>int bruttoPreis = 10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Courier New"/>
              </a:rPr>
              <a:t>if(stammKund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Courier New"/>
              </a:rPr>
              <a:t>int nettoPreis = bruttoPreis*0.8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Courier New"/>
              </a:rPr>
              <a:t>if(neuKund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Courier New"/>
              </a:rPr>
              <a:t>int nettoPreis = bruttoPreis*0.9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447920"/>
            <a:ext cx="693432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wer zu warten und unübersichtl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enutzte Algorithmen sind unnöt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isse Schwierigkeiten beim Erweitern und Veränd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Courier New"/>
              </a:rPr>
              <a:t>int bruttoPreis = 10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Courier New"/>
              </a:rPr>
              <a:t>if(stammKund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Courier New"/>
              </a:rPr>
              <a:t>int nettoPreis = bruttoPreis*0.8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Courier New"/>
              </a:rPr>
              <a:t>if(neuKund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Courier New"/>
              </a:rPr>
              <a:t>int nettoPreis = bruttoPreis*0.9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371600" y="1981080"/>
          <a:ext cx="726768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72676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19120" y="2765520"/>
          <a:ext cx="734400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2765520"/>
                    <a:ext cx="734400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523880" y="1219320"/>
            <a:ext cx="7010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text verwendet eine konkrete Strategy-Insta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nittstelle von Strategy muss mächtig genug sein, so dass alle erdenklichen Algorithmen abgedeckt s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truktur - 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438280" y="990720"/>
          <a:ext cx="4572000" cy="23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457200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828800" y="3657600"/>
            <a:ext cx="58672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spiel eines Preisberechnungstools mit zwei Berechnungs-Algorith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Stammkunde = 20% Rab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eukunde = 5% Rab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030400" y="762120"/>
          <a:ext cx="4572000" cy="23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762120"/>
                    <a:ext cx="457200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truktur - 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752480"/>
            <a:ext cx="1600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2920" y="116856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Rech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05144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abstract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191120"/>
            <a:ext cx="2286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030400" y="762120"/>
          <a:ext cx="4572000" cy="23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762120"/>
                    <a:ext cx="457200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truktur - 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2743200"/>
            <a:ext cx="1600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2920" y="116856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Rech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51960" y="21589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Rechner_Neuku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405144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abstract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48895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_Neukun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xtends PreisRechn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return 5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86692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50292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030400" y="762120"/>
          <a:ext cx="4572000" cy="23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762120"/>
                    <a:ext cx="457200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 txBox="1"/>
          <p:nvPr/>
        </p:nvSpPr>
        <p:spPr>
          <a:xfrm>
            <a:off x="1295280" y="152280"/>
            <a:ext cx="23511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Strategy Patter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truktur - Beis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2743200"/>
            <a:ext cx="1600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57276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_Stammkun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xtends PreisRechn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return 2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2920" y="1168560"/>
            <a:ext cx="128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Rech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87280" y="2133720"/>
            <a:ext cx="24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cc"/>
                </a:solidFill>
                <a:latin typeface="Impact"/>
              </a:rPr>
              <a:t>PreisRechner_Stammku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405144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abstract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8895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0" lang="en-US" sz="1600" spc="-1" strike="noStrike">
                <a:solidFill>
                  <a:srgbClr val="0099cc"/>
                </a:solidFill>
                <a:latin typeface="Times New Roman"/>
              </a:rPr>
              <a:t>PreisRechner_Neukun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xtends PreisRechn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getPreis(int buruttoPreis) {return 5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866920" y="43434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10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438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86728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0:44:20Z</dcterms:created>
  <dc:creator> </dc:creator>
  <dc:description/>
  <dc:language>en-US</dc:language>
  <cp:lastModifiedBy> </cp:lastModifiedBy>
  <dcterms:modified xsi:type="dcterms:W3CDTF">2004-04-18T17:22:59Z</dcterms:modified>
  <cp:revision>8</cp:revision>
  <dc:subject/>
  <dc:title>Kein Folientitel</dc:title>
</cp:coreProperties>
</file>